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B9F-4FCE-47F8-AB82-545CBC5499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82D-960E-4BE0-B594-386E5FA6C6A8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B13-69EA-40F9-8880-9811492F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AB4-48E1-4B5C-A57F-682101D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116-28B5-410C-9318-D61A7221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F0A-0E65-48E0-914B-F59881E5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9EDD-A724-4150-96F1-9C690571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634D-9EE4-4604-818A-88DCE31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A05B-42F9-4A00-A127-CE9D08D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E706-51C2-48C7-9EF4-F1FD10E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73D5-4AFF-4724-94AD-A53F4183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2553-7394-42C6-8563-A417BA85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38B-1DC9-4427-BD09-D0B86ED6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C92-05BD-486E-8E8B-A972119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F72-4CA0-4F27-AB83-5D82B9E1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F7A-0015-4B7C-BCA8-298D37E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99D-A6BB-48D8-9B69-51576D6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DDC-06A9-47D2-940F-A346FA8C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519D-7A80-4680-8007-CA49C482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D0F5-E06D-482F-9601-234C12F5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E66F-4A62-4170-AF39-A603E305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6224-1777-41DC-A430-0F9E9A94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8CAA-D673-43A6-8DA0-3B7C57B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F8C4-163E-466E-AA31-5AC1CF51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DD0-81C9-4182-BF13-0F4F06C6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9646-AAC1-42A6-86AE-DA89B5E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9D06-A0BF-41CA-A3B8-44A3AC2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2309-2D4B-4689-9B9E-695965C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9541-BD1A-45E9-B3F0-45FCED4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E965-A760-4C8F-8F61-579385A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A792-4503-449A-80AC-FEEEAC7A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EA95-2A1D-41CF-943E-FC8DC6F6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88EE-FDB0-48E7-A939-5EE339B6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18E0-352F-4988-A99E-B046DB9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A265-C2A3-4289-8AFE-618396A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68C-CEB2-4007-8391-4AE8CB8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DED0-2D3F-4DBA-882A-F1771941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D1EF-81E8-4742-BE8B-7A657B22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15F9-67CE-462A-9368-BEEA07B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8B80-3345-4358-88C6-988F80D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C95F-77CC-46ED-9451-4F2E192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7752-DF94-43A9-B886-9B5F436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F670-663A-4FC3-B0C7-611D6FC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BEC3-1D14-4F3B-B3C3-2CF682C1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9999-1D5B-4AB7-9F47-52844DE6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632E-B583-4894-90BF-187F304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600-6B3F-490D-A22E-5B2A9B4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9B72-1B14-4A74-90B2-25D859C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BD24-5805-48CB-8C91-1F1F900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FE25-7C03-48FF-8750-7D76D6B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48D3-F0A3-40D6-849E-7609D62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918A-D47D-4FE3-9B99-4AE2E417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1C70-CA78-4BBC-B5AB-BB4B049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CAF0-DEDF-4173-BA8E-5A77A25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9619-66A6-4469-BEE4-FD74462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F61F-54B3-4348-84F4-35AB229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A7B0-2534-4C90-B20F-7A5CCF9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646-7291-48EB-95D2-7FDB64D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339A-CD2E-41B8-8C3C-A70C530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5EC9-1799-428B-BBBF-54BF82D0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C252-4CBD-43A1-B3FE-260CEE31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A64E-867A-4611-B2F4-1DFB786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E82B-13DB-4954-B26D-1BCD112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CF6F-FF9D-48C5-8DBD-AC3FE62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57F2-9255-49E0-A666-382CE91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BAB3-9639-4EA8-9AFA-1B28473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2B43D-7B6A-4C40-92B6-E4CB99CB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A5898-B409-4135-8E29-56B1741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0B0-F6F2-496A-A4CC-5B21541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E47B-AA43-425C-B0CF-FC12F2C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CDE8-E3F4-40B2-967F-F44591AF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E0D3-9438-4C39-A68E-C09320F9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A18-5E41-4B97-8F10-86C94DD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892-DFD8-4F4F-BA65-2DFDB4A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C77-E0CC-4350-8051-EA8F6644666C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8DA-A51D-40AC-BF28-8AEE905331E4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EDE-CADE-4A52-BFE4-1562505C6B33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F22-FA68-43B8-933E-30F740C1A5D4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72E-700C-49B8-85A8-FC44330E5B04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AAE-5E14-4CB8-A734-0E8A1104C3CD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mMij99ETJo&amp;feature=player_detailpag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hotelmassalialp@hotelmassalia.co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França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ff"/>
                </a:solidFill>
                <a:latin typeface="Arial"/>
              </a:rPr>
              <a:t>Représentation oral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ffffff"/>
                </a:solidFill>
                <a:latin typeface="Arial"/>
              </a:rPr>
              <a:t>Gimena Varela – LAH – Ucel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599840"/>
            <a:ext cx="746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uveau site d'emploi pour l'hôtellerie-restauration 100% Grat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Franklin Gothic Book"/>
              </a:rPr>
              <a:t>www.cvhotellerie.com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85840" y="3214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14960" y="3571920"/>
            <a:ext cx="335772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Argent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ob Ho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Zonajob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utrabaj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mera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Les avantages pour les candidats et pour les employeurs </a:t>
            </a:r>
            <a:r>
              <a:rPr b="0" lang="es-ES" sz="28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59984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ace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épose d`offres d`emploi illim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ulter la base des CV´s et les offres d`empl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sagerie priv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357800" y="3571920"/>
            <a:ext cx="45576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99680" y="428400"/>
            <a:ext cx="8286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 expérience de recherche d´emploi en Uruguay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e suis dans la page computrabajo.com.uy à la recherche du travail dans l'industrie hôteliè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rès avoir complété le formulaire d'enregistrement et d’insérer mon CV, J’ai demandé de m'informer les offres d'emploi disponibles à travers du mail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rès quelques jours, j'ai reçu une messagerie privée interne à la position du gouvernante pour un hôtel 5 étoile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’ai entrée à la page, mettez le numéro de position, et J´ai lis tous les détails sur les travaux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appliquer a la position, J’ai encore introduire mon CV au l'entreprise qui a publiée l'annonce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uis, cette entreprise m'a contacté pour des intervie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La soiree Louis XIV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5998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Arrivé des milliers d'invités au bal masqué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youtube.com/watch?v=jmMij99ETJo&amp;feature=player_detailp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000440" y="856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Franklin Gothic Book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2714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seille est située au sud-est de la France, dans la région de Provence-Alpes-Côte d’ Az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seille est le premier port français et méditerrané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ville est à proximité de très importantes villes comme Monaco, Nice, Cannes, où se célèbre le Festival De Cannes, du port de Toulon et aussi de la principauté du Mona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us pouvez prendre le  TGV et en peu de temps être à Lyon e Par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2 Imagen" descr="regiones-de-francia.gif"/>
          <p:cNvPicPr/>
          <p:nvPr/>
        </p:nvPicPr>
        <p:blipFill>
          <a:blip r:embed="rId1"/>
          <a:stretch/>
        </p:blipFill>
        <p:spPr>
          <a:xfrm>
            <a:off x="5643720" y="0"/>
            <a:ext cx="2927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714400" y="1428480"/>
            <a:ext cx="603252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E CLI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20 jours de soleil par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température moyenne à Marseille est de 15°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Fichier:Marseille Old Port.jpg"/>
          <p:cNvPicPr/>
          <p:nvPr/>
        </p:nvPicPr>
        <p:blipFill>
          <a:blip r:embed="rId1"/>
          <a:stretch/>
        </p:blipFill>
        <p:spPr>
          <a:xfrm>
            <a:off x="622440" y="1262160"/>
            <a:ext cx="1834920" cy="2657520"/>
          </a:xfrm>
          <a:prstGeom prst="rect">
            <a:avLst/>
          </a:prstGeom>
          <a:ln w="0">
            <a:noFill/>
          </a:ln>
        </p:spPr>
      </p:pic>
      <p:sp>
        <p:nvSpPr>
          <p:cNvPr id="268" name="1 Título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600" spc="-1" strike="noStrike">
                <a:solidFill>
                  <a:srgbClr val="ffffff"/>
                </a:solidFill>
                <a:latin typeface="Franklin Gothic Book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6 Marcador de posición de imagen" descr="http://www.marseille.fr/sitevdm/document?id=730&amp;id_attribute=66"/>
          <p:cNvPicPr/>
          <p:nvPr/>
        </p:nvPicPr>
        <p:blipFill>
          <a:blip r:embed="rId2"/>
          <a:stretch/>
        </p:blipFill>
        <p:spPr>
          <a:xfrm>
            <a:off x="6407280" y="4834080"/>
            <a:ext cx="2388960" cy="2487600"/>
          </a:xfrm>
          <a:prstGeom prst="rect">
            <a:avLst/>
          </a:prstGeom>
          <a:ln w="0">
            <a:noFill/>
          </a:ln>
        </p:spPr>
      </p:pic>
      <p:pic>
        <p:nvPicPr>
          <p:cNvPr id="270" name="7 Imagen" descr="mairie"/>
          <p:cNvPicPr/>
          <p:nvPr/>
        </p:nvPicPr>
        <p:blipFill>
          <a:blip r:embed="rId3"/>
          <a:stretch/>
        </p:blipFill>
        <p:spPr>
          <a:xfrm>
            <a:off x="6572160" y="3500280"/>
            <a:ext cx="2144880" cy="1197000"/>
          </a:xfrm>
          <a:prstGeom prst="rect">
            <a:avLst/>
          </a:prstGeom>
          <a:ln w="0">
            <a:noFill/>
          </a:ln>
        </p:spPr>
      </p:pic>
      <p:sp>
        <p:nvSpPr>
          <p:cNvPr id="271" name="8 Rectángulo"/>
          <p:cNvSpPr/>
          <p:nvPr/>
        </p:nvSpPr>
        <p:spPr>
          <a:xfrm>
            <a:off x="857160" y="4143240"/>
            <a:ext cx="4714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e déplacer á Marseil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RTM (Régie des Transports de Marseille) exploite un réseau qui compte avec 2 lignes de tramway, 2 lignes de métro et 79 lignes de 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3200400" cy="37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ea0b0"/>
                </a:solidFill>
                <a:latin typeface="Franklin Gothic Book"/>
              </a:rPr>
              <a:t>Des lieux à visiter à Marseill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214200"/>
            <a:ext cx="814716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Arial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99920"/>
            <a:ext cx="5543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es plages sur la mer Méditerranée le plus important sont Belle Plage, L‘Odine et Le Sporting, mais il y a beaucoup de plages pour tous le types des touris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Pointe Rouge  se trouve a le quartier la pointe rouge  et offre beaucoup de activités nautiques: voile, plongée, aviron de mer, kayaks ou pirogue polynésienn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 place Castellane est une place avec d’un obélisque que a été construit à l’occasion de la naissance  du fils de l'empereur Napoléon 1er : le 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Roi de Rom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otre-Dame de la Garde, également appelée localement « la Bonne Mère » est une des basiliques mineures de l'Église catholiqu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0" descr="http://www.web-provence.com/photos/pointe-rouge.jpg"/>
          <p:cNvPicPr/>
          <p:nvPr/>
        </p:nvPicPr>
        <p:blipFill>
          <a:blip r:embed="rId1"/>
          <a:stretch/>
        </p:blipFill>
        <p:spPr>
          <a:xfrm>
            <a:off x="6572160" y="357120"/>
            <a:ext cx="2156040" cy="1616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Place Castellane"/>
          <p:cNvPicPr/>
          <p:nvPr/>
        </p:nvPicPr>
        <p:blipFill>
          <a:blip r:embed="rId2"/>
          <a:stretch/>
        </p:blipFill>
        <p:spPr>
          <a:xfrm>
            <a:off x="6858000" y="2000160"/>
            <a:ext cx="1606680" cy="2381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Basilique Notre-Dame-de-la-Garde"/>
          <p:cNvPicPr/>
          <p:nvPr/>
        </p:nvPicPr>
        <p:blipFill>
          <a:blip r:embed="rId3"/>
          <a:stretch/>
        </p:blipFill>
        <p:spPr>
          <a:xfrm>
            <a:off x="6072120" y="4572000"/>
            <a:ext cx="27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15200" cy="5486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Marseille est un lieu très touristique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Elle est visitée  par beaucoup des gens pendant tout l’année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Pour cette raison il offre une grande variété de logement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Marseille  a hôtels a partir de cinq étoiles jusqu’a des petits hôtels.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Á continuation,  je vais présenter l’hôtel  Massalia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2915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Arial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3785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Franklin Gothic Book"/>
              </a:rPr>
              <a:t>Nos Coordonné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1 Título"/>
          <p:cNvSpPr/>
          <p:nvPr/>
        </p:nvSpPr>
        <p:spPr>
          <a:xfrm>
            <a:off x="900000" y="371628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3 Marcador de texto"/>
          <p:cNvSpPr/>
          <p:nvPr/>
        </p:nvSpPr>
        <p:spPr>
          <a:xfrm>
            <a:off x="611280" y="4941720"/>
            <a:ext cx="548640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6, Bv.Charles Livon, 7éme arrondiss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éléphone et fax : 04 91 15 59 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 : </a:t>
            </a:r>
            <a:r>
              <a:rPr b="0" lang="fr-FR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otelmassalialp@hotelmassali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0000" y="2421000"/>
            <a:ext cx="727236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3674f"/>
                </a:solidFill>
                <a:latin typeface="Baskerville Old Face"/>
                <a:ea typeface="MS Mincho"/>
              </a:rPr>
              <a:t>Massalía Hôt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3674f"/>
                </a:solidFill>
                <a:latin typeface="Baskerville Old Face"/>
                <a:ea typeface="MS Mincho"/>
              </a:rPr>
              <a:t>Marseil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262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4929120"/>
            <a:ext cx="771516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fr-FR" sz="3600" spc="-1" strike="noStrike">
                <a:solidFill>
                  <a:srgbClr val="000000"/>
                </a:solidFill>
                <a:latin typeface="Franklin Gothic Book"/>
              </a:rPr>
              <a:t>Notre engagement c’est votre confort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Picture 3" descr="Iberostar Grand Hotel El Mirador - Vistas del hotel"/>
          <p:cNvPicPr/>
          <p:nvPr/>
        </p:nvPicPr>
        <p:blipFill>
          <a:blip r:embed="rId2"/>
          <a:stretch/>
        </p:blipFill>
        <p:spPr>
          <a:xfrm>
            <a:off x="950760" y="384120"/>
            <a:ext cx="42069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76200" cy="98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000000"/>
                </a:solidFill>
                <a:latin typeface="Franklin Gothic Book"/>
              </a:rPr>
              <a:t>Services aux Cli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e concierge 24h / 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’étage disponible 24h sur 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ournal quotidien délivré gratuitement en chambre selon le choix des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s de blanchisserie et de nettoyage à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urité: pour des séjours en toute tranquil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isir: grand variete de chaines de television en plusiers  lang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e pâtisserie à empo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lle de Fitness avec coach sporti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Portrait  de la Gouvernante</a:t>
            </a: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599840"/>
            <a:ext cx="3900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est née a Rome et elle étude a Lausan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arrivée a Paris le dernière ân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commencé comme réceptionniste et sa travaille est brill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uellement est la gouvernante de l’hôtel Massal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trouvé cet emploi dans un site de recherche d’emploi sur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3 Imagen" descr="gouvernate.jpg"/>
          <p:cNvPicPr/>
          <p:nvPr/>
        </p:nvPicPr>
        <p:blipFill>
          <a:blip r:embed="rId1"/>
          <a:stretch/>
        </p:blipFill>
        <p:spPr>
          <a:xfrm>
            <a:off x="5143680" y="19288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42:42Z</dcterms:created>
  <dc:creator>Jesica Francovig</dc:creator>
  <dc:description/>
  <dc:language>en-US</dc:language>
  <cp:lastModifiedBy>Gimena</cp:lastModifiedBy>
  <dcterms:modified xsi:type="dcterms:W3CDTF">2012-02-17T02:31:52Z</dcterms:modified>
  <cp:revision>32</cp:revision>
  <dc:subject/>
  <dc:title>MARSEILLE</dc:title>
</cp:coreProperties>
</file>